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879-23D2-442D-9911-7710D848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8CD-F7C8-4EC3-A31C-54E3CAB2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B26-E482-41F4-86B1-5019070F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CE3-AAC2-4859-9B23-904D3035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78772-3AE8-4CA0-9494-80BF9510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F0A83-B61A-40A9-9B6A-A28476EF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E237A-61F3-4B4B-B58F-EBC715B7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F6DDC-90D3-4EF8-B908-0FBE1CCD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C1EA6-6A98-48BD-816E-4AF0B89B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C6068-866B-4FB0-9601-E3BB7E7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77430-06DA-40B0-A09E-E1BB364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844-FBC9-4AFF-A484-58FF3D46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3E61C-C7A9-4EDC-BE71-2C474DC5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7EC11-C549-4864-8256-7713D16E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15A97-4B8F-42FB-8779-CDBC71F1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06841-820B-4BAC-9F65-2EDC489B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8A109-982E-463F-9615-629792A0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794-56A9-4D75-A7A0-D1E96E48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581-7CCE-4026-88E0-DCF82AFC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8A3-79C9-42DF-87A1-B3FB1F77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AC3-F1C5-4427-8B20-100AE85B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325-0B73-4634-8552-A62B7F52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8F1-825E-416A-B542-FF7A8165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73C-FB84-4D26-8000-23F41BA5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61FB-A7F3-4C37-A5E1-47A480FFB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F7D1-1A20-496B-B7AD-AFD27D4CB2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6477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ssion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 and Communication Skil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wards No Drug Abuse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852840" y="586728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munic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nding and receiving messa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lective Listening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aring what we want to he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pen Min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illing to listen, not judge, and see other viewpoi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ffective Communic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eaking clearly and listening w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Mcadwell</cp:lastModifiedBy>
  <dcterms:modified xsi:type="dcterms:W3CDTF">2011-01-31T23:38:30Z</dcterms:modified>
  <cp:revision>17</cp:revision>
  <dc:subject/>
  <dc:title>Project TND  (Project Towards No Drug Abuse)</dc:title>
</cp:coreProperties>
</file>